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1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14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4DD09-7AB7-4794-B844-4371CD6887B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 Patrick was born in Scotland in 385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day Americans march in parade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nce the Irish Jig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ye rivers green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of course, many people drink lots of bee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ople wear green in memory of Irelan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also wear Clover/Shamroc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four-leaf clover you will have good luc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ppy Saint Patrick’s Day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became a pri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went to Ireland to teach people about G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ay he drove all the snakes out of Irel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thers say he used shamrocks to teach about the Trin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 died March 17 in 461 A.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prechauns are unfriendly and possess a pot of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you find a Leprechaun, you can trick him into showing you his gol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if you don’t watch the leprechaun very carefully, he and the gold will disappear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58EFB-40A8-487A-ADE2-1074CD221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BB38-AC74-4B41-9D59-E46C3599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02890-65A4-4A38-B567-C68A561F7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7DD72-3FC0-4AE8-A2A8-F60B883A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17AD9-F13F-4F43-8B56-DF021E8E8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20F18-517B-40E6-99E5-D4274B483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1490-116B-4875-A258-6832F222B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33EB-FE89-4261-A02A-7F98E56B4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6724E-4B69-4BFF-90A6-AAACAFEB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2F73-5095-4F8D-9E43-66F615B9E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4159-4589-4921-9978-E090DFF12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304B2-764D-4A0F-A0D8-F30F01E4E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ccff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ccff99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ccff99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99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ff99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D66D2-5EFA-4751-8FED-8533EC1B547F}" type="slidenum">
              <a:rPr b="0" lang="en-US" sz="1400" spc="-1" strike="noStrike">
                <a:solidFill>
                  <a:srgbClr val="ccff99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t Patrick was born in Scotland in 385 A.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2" name="Picture 5" descr="scotland"/>
          <p:cNvPicPr/>
          <p:nvPr/>
        </p:nvPicPr>
        <p:blipFill>
          <a:blip r:embed="rId1"/>
          <a:stretch/>
        </p:blipFill>
        <p:spPr>
          <a:xfrm>
            <a:off x="1393920" y="2093760"/>
            <a:ext cx="6362640" cy="476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Today Americans march in parades…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7" name="Picture 5" descr="HATS%20200%20St"/>
          <p:cNvPicPr/>
          <p:nvPr/>
        </p:nvPicPr>
        <p:blipFill>
          <a:blip r:embed="rId1"/>
          <a:stretch/>
        </p:blipFill>
        <p:spPr>
          <a:xfrm>
            <a:off x="2124000" y="2660760"/>
            <a:ext cx="5178600" cy="36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15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ance the Irish Jig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2" name="Picture 5" descr="jig"/>
          <p:cNvPicPr/>
          <p:nvPr/>
        </p:nvPicPr>
        <p:blipFill>
          <a:blip r:embed="rId1"/>
          <a:stretch/>
        </p:blipFill>
        <p:spPr>
          <a:xfrm>
            <a:off x="1979640" y="1857240"/>
            <a:ext cx="45054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Dye rivers green…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06" name="Picture 7" descr="Chicago-StPatricks-Day17"/>
          <p:cNvPicPr/>
          <p:nvPr/>
        </p:nvPicPr>
        <p:blipFill>
          <a:blip r:embed="rId1"/>
          <a:stretch/>
        </p:blipFill>
        <p:spPr>
          <a:xfrm>
            <a:off x="915840" y="2006640"/>
            <a:ext cx="7275600" cy="46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And of course, many people drink lots of bee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1" name="Picture 5" descr="Too_much_beer_already_Neil"/>
          <p:cNvPicPr/>
          <p:nvPr/>
        </p:nvPicPr>
        <p:blipFill>
          <a:blip r:embed="rId1"/>
          <a:stretch/>
        </p:blipFill>
        <p:spPr>
          <a:xfrm>
            <a:off x="1119240" y="1704960"/>
            <a:ext cx="6519960" cy="49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People wear green in memory of Ireland 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16" name="Picture 5" descr="C2624-05"/>
          <p:cNvPicPr/>
          <p:nvPr/>
        </p:nvPicPr>
        <p:blipFill>
          <a:blip r:embed="rId1"/>
          <a:stretch/>
        </p:blipFill>
        <p:spPr>
          <a:xfrm>
            <a:off x="3497400" y="2368440"/>
            <a:ext cx="2314440" cy="3419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7" descr="C2624-07"/>
          <p:cNvPicPr/>
          <p:nvPr/>
        </p:nvPicPr>
        <p:blipFill>
          <a:blip r:embed="rId2"/>
          <a:stretch/>
        </p:blipFill>
        <p:spPr>
          <a:xfrm>
            <a:off x="6056280" y="2332080"/>
            <a:ext cx="2343240" cy="3457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2342-18"/>
          <p:cNvPicPr/>
          <p:nvPr/>
        </p:nvPicPr>
        <p:blipFill>
          <a:blip r:embed="rId3"/>
          <a:stretch/>
        </p:blipFill>
        <p:spPr>
          <a:xfrm>
            <a:off x="934920" y="2386080"/>
            <a:ext cx="2324160" cy="344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also wear Clover/Shamrocks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3" name="Picture 5" descr="clover-big"/>
          <p:cNvPicPr/>
          <p:nvPr/>
        </p:nvPicPr>
        <p:blipFill>
          <a:blip r:embed="rId1"/>
          <a:stretch/>
        </p:blipFill>
        <p:spPr>
          <a:xfrm>
            <a:off x="1138320" y="1438200"/>
            <a:ext cx="72295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four-leaf clover you will have good luck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128" name="Picture 7" descr="four-leaf-clover"/>
          <p:cNvPicPr/>
          <p:nvPr/>
        </p:nvPicPr>
        <p:blipFill>
          <a:blip r:embed="rId1"/>
          <a:stretch/>
        </p:blipFill>
        <p:spPr>
          <a:xfrm>
            <a:off x="1357200" y="167472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8573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ff99"/>
                </a:solidFill>
                <a:latin typeface="Tahoma"/>
              </a:rPr>
              <a:t>Happy Saint Patrick’s Day!</a:t>
            </a:r>
            <a:endParaRPr b="1" lang="en-US" sz="9600" spc="-1" strike="noStrike">
              <a:solidFill>
                <a:srgbClr val="ccff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became a priest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57" name="Picture 5" descr="stpatrick2"/>
          <p:cNvPicPr/>
          <p:nvPr/>
        </p:nvPicPr>
        <p:blipFill>
          <a:blip r:embed="rId1"/>
          <a:stretch/>
        </p:blipFill>
        <p:spPr>
          <a:xfrm>
            <a:off x="3203640" y="2147760"/>
            <a:ext cx="2670120" cy="47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He went to Ireland to teach people about Go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2" name="Picture 5" descr="UK"/>
          <p:cNvPicPr/>
          <p:nvPr/>
        </p:nvPicPr>
        <p:blipFill>
          <a:blip r:embed="rId1"/>
          <a:stretch/>
        </p:blipFill>
        <p:spPr>
          <a:xfrm>
            <a:off x="2674800" y="1765440"/>
            <a:ext cx="3935520" cy="509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Some say he drove all the snakes out of Irelan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67" name="Picture 5" descr="snakes"/>
          <p:cNvPicPr/>
          <p:nvPr/>
        </p:nvPicPr>
        <p:blipFill>
          <a:blip r:embed="rId1"/>
          <a:stretch/>
        </p:blipFill>
        <p:spPr>
          <a:xfrm>
            <a:off x="1595520" y="2459160"/>
            <a:ext cx="5645160" cy="38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Others say he used shamrocks to teach about the Trinity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2" name="Picture 5" descr="patrick"/>
          <p:cNvPicPr/>
          <p:nvPr/>
        </p:nvPicPr>
        <p:blipFill>
          <a:blip r:embed="rId1"/>
          <a:stretch/>
        </p:blipFill>
        <p:spPr>
          <a:xfrm>
            <a:off x="1265400" y="2075040"/>
            <a:ext cx="2199960" cy="37623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shamrocks"/>
          <p:cNvPicPr/>
          <p:nvPr/>
        </p:nvPicPr>
        <p:blipFill>
          <a:blip r:embed="rId2"/>
          <a:stretch/>
        </p:blipFill>
        <p:spPr>
          <a:xfrm>
            <a:off x="3952800" y="2862360"/>
            <a:ext cx="293544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99"/>
                </a:solidFill>
                <a:latin typeface="Tahoma"/>
              </a:rPr>
              <a:t>He died March 17 in 461 A.D.</a:t>
            </a:r>
            <a:endParaRPr b="1" lang="en-US" sz="36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78" name="Picture 5" descr="0011_st_patrick"/>
          <p:cNvPicPr/>
          <p:nvPr/>
        </p:nvPicPr>
        <p:blipFill>
          <a:blip r:embed="rId1"/>
          <a:stretch/>
        </p:blipFill>
        <p:spPr>
          <a:xfrm>
            <a:off x="2270160" y="1438200"/>
            <a:ext cx="406728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Leprechauns are unfriendly and possess a pot of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2" name="Picture 13" descr="leprechaun"/>
          <p:cNvPicPr/>
          <p:nvPr/>
        </p:nvPicPr>
        <p:blipFill>
          <a:blip r:embed="rId1"/>
          <a:stretch/>
        </p:blipFill>
        <p:spPr>
          <a:xfrm>
            <a:off x="2292480" y="1789200"/>
            <a:ext cx="4667040" cy="47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Місце для дати 4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Місце для нижнього колонтитула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If you find a Leprechaun, you can trick him into showing you his gold.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86" name="Picture 4" descr="leprechaun"/>
          <p:cNvPicPr/>
          <p:nvPr/>
        </p:nvPicPr>
        <p:blipFill>
          <a:blip r:embed="rId1"/>
          <a:stretch/>
        </p:blipFill>
        <p:spPr>
          <a:xfrm>
            <a:off x="882720" y="1706400"/>
            <a:ext cx="3251160" cy="4699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8" descr="41%20Pot%20O%20Gold%2010'%20x%2010'"/>
          <p:cNvPicPr/>
          <p:nvPr/>
        </p:nvPicPr>
        <p:blipFill>
          <a:blip r:embed="rId2"/>
          <a:stretch/>
        </p:blipFill>
        <p:spPr>
          <a:xfrm>
            <a:off x="4556160" y="1819440"/>
            <a:ext cx="3902040" cy="46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99"/>
                </a:solidFill>
                <a:latin typeface="Tahoma"/>
              </a:rPr>
              <a:t>But if you don’t watch the leprechaun very carefully, he and the gold will disappear!</a:t>
            </a:r>
            <a:endParaRPr b="1" lang="en-US" sz="3200" spc="-1" strike="noStrike">
              <a:solidFill>
                <a:srgbClr val="ccff99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cff99"/>
              </a:solidFill>
              <a:latin typeface="Tahoma"/>
            </a:endParaRPr>
          </a:p>
        </p:txBody>
      </p:sp>
      <p:pic>
        <p:nvPicPr>
          <p:cNvPr id="92" name="Picture 5" descr="ll83"/>
          <p:cNvPicPr/>
          <p:nvPr/>
        </p:nvPicPr>
        <p:blipFill>
          <a:blip r:embed="rId1"/>
          <a:stretch/>
        </p:blipFill>
        <p:spPr>
          <a:xfrm>
            <a:off x="1341360" y="2149560"/>
            <a:ext cx="6265800" cy="39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21:33:35Z</dcterms:created>
  <dc:creator>Laura Bergells</dc:creator>
  <dc:description>Free Saint Patrick's Day PowerPoint!</dc:description>
  <cp:keywords>March Saint Patrick St. Patrick's Day</cp:keywords>
  <dc:language>en-US</dc:language>
  <cp:lastModifiedBy>RomaK</cp:lastModifiedBy>
  <dcterms:modified xsi:type="dcterms:W3CDTF">2015-09-02T09:55:32Z</dcterms:modified>
  <cp:revision>15</cp:revision>
  <dc:subject>St. Patrick's Day</dc:subject>
  <dc:title>Saint Patrick's Day PowerPoint Template</dc:title>
</cp:coreProperties>
</file>